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DC3-CB95-4EC1-91FD-460DFDD8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BEF-B1C9-4625-95ED-977EF24D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A3F-0D1E-42A3-9932-FD0947A8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300-164E-44BB-8745-66E9E5DC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EFE-6455-4398-8D18-849B1AE1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75D-08C8-40C1-BB6A-9DAC9D49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548-B3A1-4106-A47C-247DF1BE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854-BA32-400A-9640-967D968F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5A7-8CBF-4158-BA3B-2F9C9ED2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592-30DC-479E-9A56-E426294E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7C9-19FA-4830-A98A-ECA4BBA5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712-FD25-4C46-BA9F-6FFFE879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5CDC0BB8-B7BF-46F5-9D1C-E027F58CC6C2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mmunityaccounts.ca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bc.ca/newsblogs/yourcommunity/2013/09/911-anniversary-advertising-fails-provoke-outrage.html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R150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ith Paul Tille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943600" y="40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Note: These slides contain my own material and Pearson Education Canada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ersonal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Opinion leaders affect your decision as does word-of-mouth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Reference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You look to these people as a measure of your relative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mily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ere the family is in their lifecycle affects their purchase decis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Cla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division of society that you feel you fall i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ulture and Subcul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accepted set of values and beliefs and attitudes that exist amongst a single group in society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486400" y="5029200"/>
            <a:ext cx="35812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CA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ommunityaccounts.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re is a great deal of influence on the CPDP by th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roduct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ri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way the product is Promo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lace where the product is sold or how it is deliver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Business 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re we being manipul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Promises vs re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ark side of our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s’ Imp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ing consumer behaviour is good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derstanding people/organizations to satisfy consumers’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nowledge and data about customer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to define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threats/opportunities to a br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EF409AD8-7270-4AF5-9401-B30A31B86208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gmenting Consum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Segmen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milar consu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: “Heavy Users”</a:t>
            </a: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 fast-food industry or similar ethnic backgr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13" descr="pho01-03"/>
          <p:cNvPicPr/>
          <p:nvPr/>
        </p:nvPicPr>
        <p:blipFill>
          <a:blip r:embed="rId1"/>
          <a:stretch/>
        </p:blipFill>
        <p:spPr>
          <a:xfrm>
            <a:off x="914400" y="3581280"/>
            <a:ext cx="7353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4CFEA88C-1A12-46AC-8F27-FA7ABBEEBEB4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Demograph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mily Structure and Marital Sta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cial Class and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n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Lifesty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sychograp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y we feel about 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do in our spare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 = building lifetime relationships between brands and cus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ular interaction with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tabas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’s Impact on Consum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significantly influence the world and the information we lear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vertisements, stores, and products communicate and persua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ea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f Consump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often buy products not for what they do, but for what they me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y image/person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e our place in modern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us to form bonds with others who share similar prefer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ition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study of the processes involv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actions that a person or group takes i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Purchasing,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Using and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Disposing of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s and servi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mental an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processes th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cee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follow these ac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satisfy needs and desir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and Relationship Ty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Concept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stalgic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epend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Global Consum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united by common devotion t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and name consumer go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vie st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isure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sure to understand similarities and differences of customers in various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ct of the Web on consumer behavi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4/7 shopping without leaving h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antaneous access to ne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ndheld devices and wireless commun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2C e-comme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rtual brand comm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chat ro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9604A87D-E0CD-4773-B7EC-4E04B5CAABE0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 (Cont’d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red” Canadians spend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with friends/fami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shopping in sto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time working at home after h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, many report that e-mail strengthens family 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77CC19A1-D620-4595-BF46-14B80A0EE714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and Re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rred boundaries” between marketing efforts and “the real world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ar culture shaped by market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Ethics: rules of conduct that guide actions in the marketpl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“Right vs. Wrong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s among people, organizations, and cul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5105520" y="4762440"/>
            <a:ext cx="3238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MISSTEPS See:  </a:t>
            </a:r>
            <a:r>
              <a:rPr b="0" lang="en-CA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9/11 anniversary 'advertising fails' provoke out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Public Policy (cont’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think better of products made by firms they feel behave eth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15B53A6A-A20B-438E-9B4C-74C079BBDA8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ipulating Needs and Wa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tell people what they should w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pace vs. Consumersp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Marketers recommend ways to satisfy basic biological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246FCB3D-8DCF-4C00-8BA7-E9CB8DBBA602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 foster materi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sponse: Products are designed to meet existing nee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conomics of Information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Discussion: do marketers have the ability to control our desires or the power to create need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s this situation changing as the Internet creates new ways to interact with companies?  If so, how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re Advertising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Necessar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C6EB925A-19C9-4BE5-8475-B8E723D8904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Marketers Promise Miracle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ertising promises “magical”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Advertisers simply do not know enough about people to manipulate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ilure rate for new products = 40% to 8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umer Behaviour is a “Proces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61722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79c8"/>
                </a:solidFill>
                <a:latin typeface="Verdana"/>
              </a:rPr>
              <a:t>Figure 1.1 (Abridg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380520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8088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es a consumer decide about needing a produ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are consumer attitudes formed/chang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product acquisition a stressful or pleasant experien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ituational factors affect purchase decis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product provide pleasure or perform function? How is product disposed of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etermines customer satisfaction and repurchase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Line 78"/>
          <p:cNvSpPr/>
          <p:nvPr/>
        </p:nvSpPr>
        <p:spPr>
          <a:xfrm>
            <a:off x="7342200" y="3657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79"/>
          <p:cNvSpPr/>
          <p:nvPr/>
        </p:nvSpPr>
        <p:spPr>
          <a:xfrm>
            <a:off x="4114800" y="367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80"/>
          <p:cNvSpPr/>
          <p:nvPr/>
        </p:nvSpPr>
        <p:spPr>
          <a:xfrm>
            <a:off x="73152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1"/>
          <p:cNvSpPr/>
          <p:nvPr/>
        </p:nvSpPr>
        <p:spPr>
          <a:xfrm>
            <a:off x="4114800" y="26607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83"/>
          <p:cNvSpPr/>
          <p:nvPr/>
        </p:nvSpPr>
        <p:spPr>
          <a:xfrm>
            <a:off x="5562720" y="2362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84"/>
          <p:cNvSpPr/>
          <p:nvPr/>
        </p:nvSpPr>
        <p:spPr>
          <a:xfrm>
            <a:off x="5410080" y="3409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85"/>
          <p:cNvSpPr/>
          <p:nvPr/>
        </p:nvSpPr>
        <p:spPr>
          <a:xfrm>
            <a:off x="5410080" y="4419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ublic Policy and Consume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welfare is protected at the Federal, Provincial and Municipal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 area of focu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ion from unfair business pract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 broad interest of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s depend on their government to regulate and polic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ervision may depend on political climate in a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64281802-4D7E-4E0E-ACE9-260B0ECA389B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Activ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bus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n-Profit advocates “for the new social activist movement of the information age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y Nothing Day and TV Turnoff Wee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e Jam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ims to disrupt corporate efforts to dominate our cultural landscap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sumer “Dark Side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dict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uls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Consum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egal Activit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consump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9" descr="pho01-07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y of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isciplinary Influ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different perspectives/fiel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Behaviour Employ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ies, manufacturers, museums, advertising agencies, and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spectives on Consumer Researc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the function of objects/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ate technology, sci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ld as an objective, rational, ordered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pre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importance of sympol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each construct our own mean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ption of products = diverse experi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ors in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: A person who identifies a need or desire, makes a purchase, and then disposes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r vs. user vs. influenc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/group as consum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Consumer Purchase Decision Process (CPDP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ceive a need: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oblem Recogni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ek information on how to fill the need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nformation Searc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(Internal sources &amp; External Source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sessing the information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lternative Evalua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 (Form an Evoked Set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lect and Alternative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urchase Deci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fter Purchase feeling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ost-purchase Behaviou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Cognitive Dissonance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fluences on the CPD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s that come from the buying situation (physical and mental) that you find yourself in during the CPDP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inly internal, your mindset affects the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 that come from society and our social surrounding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ffect of the sellers efforts in manipulating the price, place, product and promotion on the consumers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se are influences on the CPDP that are related to the situation that the buyer finds him/herself in when making the buying decision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ituational Influ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chase Task - Amount of effort require to buy a produ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Surroundings - The people around you when you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hysical Surrounding - The building/place you are in to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emporal Effects - Time related effec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tecedent State - Mood of the buy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Key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s impact a business’ marketing strate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Motiva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See Maslow’s Hierarchy of needs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sona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cep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perception process - Selective perceptio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importance of risk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earning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ehavioural Learning - learned through experienc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Cognitive Learning - learned through mental processes such as thinking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rand Loyalty -  learned through experience or other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Values, Beliefs &amp;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Attitude formation &amp; changing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ifestyl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Mode of living - Self defined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09:49:08Z</dcterms:created>
  <dc:creator>Paul/Evelyn Tilley</dc:creator>
  <dc:description/>
  <dc:language>en-US</dc:language>
  <cp:lastModifiedBy>Tilley, Paul (C'ville)</cp:lastModifiedBy>
  <dcterms:modified xsi:type="dcterms:W3CDTF">2013-09-16T13:51:23Z</dcterms:modified>
  <cp:revision>12</cp:revision>
  <dc:subject/>
  <dc:title>Consumer Behavi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